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38B-3141-4705-845B-6C588085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BA8-E551-4DC3-9761-063D6BEC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346-FF41-46DA-95EC-FB5EDA93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061-5D06-4D35-A8C2-5965B9FF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E29-B26D-4D8D-89CB-5424AC9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3EA-0B2B-4CAA-B4FB-7783FE47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C13-E7C2-4630-A5A1-671688C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0D1-4593-469A-9CB1-C7BAF086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EEA-C869-4A64-83D0-148E2AFD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16F-6B65-469C-909D-D5C6825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7A6-4913-4654-BB81-DEB8BED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4FE-2625-4E1F-BF7E-50B8885A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69560" cy="688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69560" cy="68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43080" y="6215040"/>
            <a:ext cx="317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Конференция «Расширение доступа малого бизнеса к финансированию в России»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Москва, 1 марта 2002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662280" y="623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BC7-DCF8-449C-A34D-9DA0C71B4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Проект Тасис СМЕРУС 9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4.wmf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12760"/>
            <a:ext cx="8839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62c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9080" y="1143000"/>
            <a:ext cx="8186760" cy="4898880"/>
            <a:chOff x="289080" y="1143000"/>
            <a:chExt cx="8186760" cy="4898880"/>
          </a:xfrm>
        </p:grpSpPr>
        <p:sp>
          <p:nvSpPr>
            <p:cNvPr id="46" name=""/>
            <p:cNvSpPr/>
            <p:nvPr/>
          </p:nvSpPr>
          <p:spPr>
            <a:xfrm>
              <a:off x="289080" y="1143000"/>
              <a:ext cx="679932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3300"/>
                  </a:solidFill>
                  <a:latin typeface="Arial"/>
                </a:rPr>
                <a:t>Кредитный потребительский кооператив Перспектив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это некоммерческая организация, созданная на грант USA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5080" y="1945440"/>
              <a:ext cx="5947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Кредитный потребительский кооператив Перспекти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регистрирован 1 октября 1997 год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0520" y="2833200"/>
              <a:ext cx="70797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Кредитный потребительский кооператив Перспекти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действует созданию и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звитию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лого и микро- бизнес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территории Новгородской и Ленинградской област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7680" y="3942720"/>
              <a:ext cx="71179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Кредитный потребительский кооператив Перспекти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доставляет займы на увеличение оборотного капитал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 на покупку основных средст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8560" y="5126400"/>
              <a:ext cx="6947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Кредитный потребительский кооператив Перспекти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длагает информационные и консультационные услу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воим клиента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C15-63FB-4F2A-9E96-529C40EDE3F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28600" y="2057400"/>
          <a:ext cx="862344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6234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771-4F9F-4971-8A22-FEC90E5AF9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0" y="2286000"/>
            <a:ext cx="9374040" cy="3733920"/>
            <a:chOff x="0" y="2286000"/>
            <a:chExt cx="9374040" cy="3733920"/>
          </a:xfrm>
        </p:grpSpPr>
        <p:sp>
          <p:nvSpPr>
            <p:cNvPr id="228" name=""/>
            <p:cNvSpPr/>
            <p:nvPr/>
          </p:nvSpPr>
          <p:spPr>
            <a:xfrm>
              <a:off x="0" y="4611600"/>
              <a:ext cx="304812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62c"/>
                  </a:solidFill>
                  <a:latin typeface="Arial"/>
                </a:rPr>
                <a:t>Кредитный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62c"/>
                  </a:solidFill>
                  <a:latin typeface="Arial"/>
                </a:rPr>
                <a:t>Кооперати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62c"/>
                  </a:solidFill>
                  <a:latin typeface="Arial"/>
                </a:rPr>
                <a:t>Перспектив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"/>
            <p:cNvGraphicFramePr/>
            <p:nvPr/>
          </p:nvGraphicFramePr>
          <p:xfrm>
            <a:off x="2895480" y="3688560"/>
            <a:ext cx="3089520" cy="233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3688560"/>
                      <a:ext cx="3089520" cy="233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3581280" y="2286000"/>
              <a:ext cx="579276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62c"/>
                  </a:solidFill>
                  <a:latin typeface="Arial"/>
                </a:rPr>
                <a:t>Филиал Перспектива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62c"/>
                  </a:solidFill>
                  <a:latin typeface="Arial"/>
                </a:rPr>
                <a:t>Фонда поддержки малого предпринимательства ФО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7760" y="426960"/>
            <a:ext cx="883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 июля 2000 года  совместно с «Оппортьюнити Интернэшнл Россия»  зарегистрирован Фонд поддержки малого предпринимательства «ФОРА». В этот Фонд входят 12 учредителей: 8 из которых являются Партнерами Поддержки, а 4 - Микрофинансовые  агентства - Партнеры «Оппортьюнити Интернэшнл Россия» из Воронежа,  Ростова-на-Дону, Саратова и Великого Новгор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перь всем известный Кредитный Кооператив Перспектива продолжает свою деятельность как Филиал «Перспектива» Фонда поддержки малого предпринимательства «ФОРА» на территории Северо-западного региона Росс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AFA-B041-4DE1-B5E8-AB0994E92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264960"/>
            <a:ext cx="891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2c"/>
                </a:solidFill>
                <a:latin typeface="Arial"/>
              </a:rPr>
              <a:t>ПАРТНЕРЫ ФОНДА ПОДДЕРЖКИ МАЛОГО ПРЕДПРИНИМАТЕЛЬСТВА “ФОР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-6480" y="1344600"/>
          <a:ext cx="91616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1344600"/>
                    <a:ext cx="91616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73080" y="185760"/>
          <a:ext cx="455400" cy="38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0" y="185760"/>
                    <a:ext cx="45540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42880" y="887400"/>
          <a:ext cx="584280" cy="278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880" y="887400"/>
                    <a:ext cx="5842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290600" y="1219320"/>
          <a:ext cx="916200" cy="17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0600" y="1219320"/>
                    <a:ext cx="9162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36600" y="1316160"/>
          <a:ext cx="6091200" cy="299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36600" y="1316160"/>
                    <a:ext cx="60912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391-3D36-470E-987A-F489B7C3AA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52280" y="646200"/>
            <a:ext cx="8839440" cy="5258160"/>
            <a:chOff x="152280" y="646200"/>
            <a:chExt cx="8839440" cy="5258160"/>
          </a:xfrm>
        </p:grpSpPr>
        <p:grpSp>
          <p:nvGrpSpPr>
            <p:cNvPr id="52" name=""/>
            <p:cNvGrpSpPr/>
            <p:nvPr/>
          </p:nvGrpSpPr>
          <p:grpSpPr>
            <a:xfrm>
              <a:off x="230040" y="646200"/>
              <a:ext cx="8761680" cy="5258160"/>
              <a:chOff x="230040" y="646200"/>
              <a:chExt cx="8761680" cy="5258160"/>
            </a:xfrm>
          </p:grpSpPr>
          <p:sp>
            <p:nvSpPr>
              <p:cNvPr id="53" name=""/>
              <p:cNvSpPr/>
              <p:nvPr/>
            </p:nvSpPr>
            <p:spPr>
              <a:xfrm>
                <a:off x="380880" y="646200"/>
                <a:ext cx="8610840" cy="11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562c"/>
                    </a:solidFill>
                    <a:latin typeface="Arial"/>
                  </a:rPr>
                  <a:t>Общее количество выданных займо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562c"/>
                    </a:solidFill>
                    <a:latin typeface="Arial"/>
                  </a:rPr>
                  <a:t>121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06360" y="1955880"/>
                <a:ext cx="8610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562c"/>
                    </a:solidFill>
                    <a:latin typeface="Arial"/>
                  </a:rPr>
                  <a:t>Общая сумма выданных займов, руб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562c"/>
                    </a:solidFill>
                    <a:latin typeface="Arial"/>
                  </a:rPr>
                  <a:t>15 777 39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0040" y="3404160"/>
                <a:ext cx="8610840" cy="9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562c"/>
                    </a:solidFill>
                    <a:latin typeface="Arial"/>
                  </a:rPr>
                  <a:t>Общее количество созданных и поддержанных рабочих мес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62c"/>
                    </a:solidFill>
                    <a:latin typeface="Arial"/>
                  </a:rPr>
                  <a:t>254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30040" y="4714560"/>
                <a:ext cx="861084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62c"/>
                    </a:solidFill>
                    <a:latin typeface="Arial"/>
                  </a:rPr>
                  <a:t>Возвратность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62c"/>
                    </a:solidFill>
                    <a:latin typeface="Arial"/>
                  </a:rPr>
                  <a:t>97%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52280" y="178524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323352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" y="4612320"/>
              <a:ext cx="876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C13-A2F5-4D74-83C7-A32302E4A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4880" y="342756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7000" y="304632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6480" y="68436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2280" y="37944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137016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4360" y="114156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75080" y="251316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13160" y="243684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60680" y="548496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6480" y="495144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13160" y="464652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8880" y="191916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31000" y="191916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93120" y="191916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31560" y="191916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7480" y="397656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3640" y="397656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5760" y="405288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07520" y="405288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080" y="380880"/>
            <a:ext cx="8896320" cy="5886720"/>
            <a:chOff x="19080" y="380880"/>
            <a:chExt cx="8896320" cy="5886720"/>
          </a:xfrm>
        </p:grpSpPr>
        <p:grpSp>
          <p:nvGrpSpPr>
            <p:cNvPr id="80" name=""/>
            <p:cNvGrpSpPr/>
            <p:nvPr/>
          </p:nvGrpSpPr>
          <p:grpSpPr>
            <a:xfrm>
              <a:off x="19080" y="380880"/>
              <a:ext cx="8896320" cy="5700960"/>
              <a:chOff x="19080" y="380880"/>
              <a:chExt cx="8896320" cy="570096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371520" y="380880"/>
              <a:ext cx="3944880" cy="1616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71520" y="380880"/>
                        <a:ext cx="3944880" cy="161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3" name=""/>
              <p:cNvGraphicFramePr/>
              <p:nvPr/>
            </p:nvGraphicFramePr>
            <p:xfrm>
              <a:off x="19080" y="4336560"/>
              <a:ext cx="4336920" cy="1745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080" y="4336560"/>
                        <a:ext cx="4336920" cy="174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5" name=""/>
              <p:cNvGraphicFramePr/>
              <p:nvPr/>
            </p:nvGraphicFramePr>
            <p:xfrm>
              <a:off x="149400" y="2254680"/>
              <a:ext cx="4468680" cy="1775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9400" y="2254680"/>
                        <a:ext cx="4468680" cy="177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7" name=""/>
              <p:cNvSpPr/>
              <p:nvPr/>
            </p:nvSpPr>
            <p:spPr>
              <a:xfrm>
                <a:off x="4648320" y="691560"/>
                <a:ext cx="40384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62c"/>
                    </a:solidFill>
                    <a:latin typeface="Arial"/>
                  </a:rPr>
                  <a:t>Количество рабочих клиенто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00600" y="2634840"/>
                <a:ext cx="40384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62c"/>
                    </a:solidFill>
                    <a:latin typeface="Arial"/>
                  </a:rPr>
                  <a:t>Количество выданных займо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76920" y="4924080"/>
                <a:ext cx="4038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562c"/>
                    </a:solidFill>
                    <a:latin typeface="Arial"/>
                  </a:rPr>
                  <a:t>Портфель займов, ру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560" y="537660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8720" y="578880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8 5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5931720"/>
              <a:ext cx="108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132 94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3840" y="5791680"/>
              <a:ext cx="108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522 6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60880" y="5930640"/>
              <a:ext cx="108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 332 3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3FC-AFCA-49E5-AF62-23E942AD9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1008000"/>
            <a:ext cx="906624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562c"/>
                </a:solidFill>
                <a:latin typeface="AGOptim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вые технологии работы с клиент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562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ЫСТРА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ыдача займов пр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ИНИМУМ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окумент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562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ИБКИЕ ФОРМЫ ОБЕСПЕ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солидарная ответственность, поручительство физических и юридических лиц, зало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562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хема погашения, соответствующая денежным потокам клиен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562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знес-план для займов до 80 000 рублей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 ТРЕБУЕ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562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более крупных займов предлагается помощь в составлении бизнес-плана и анализе ры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562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оянное присутствие на рынке и долговременные отношения с клиент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фессиональный и дружелюбный перс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4960"/>
            <a:ext cx="8915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2c"/>
                </a:solidFill>
                <a:latin typeface="Arial"/>
              </a:rPr>
              <a:t>НАШИ ПРЕИМУ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E03-1953-4C85-A9E6-02ACAC708A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304920"/>
            <a:ext cx="8545680" cy="5714280"/>
            <a:chOff x="228600" y="304920"/>
            <a:chExt cx="8545680" cy="5714280"/>
          </a:xfrm>
        </p:grpSpPr>
        <p:grpSp>
          <p:nvGrpSpPr>
            <p:cNvPr id="98" name=""/>
            <p:cNvGrpSpPr/>
            <p:nvPr/>
          </p:nvGrpSpPr>
          <p:grpSpPr>
            <a:xfrm>
              <a:off x="228600" y="304920"/>
              <a:ext cx="3379680" cy="2398680"/>
              <a:chOff x="228600" y="304920"/>
              <a:chExt cx="3379680" cy="2398680"/>
            </a:xfrm>
          </p:grpSpPr>
          <p:graphicFrame>
            <p:nvGraphicFramePr>
              <p:cNvPr id="99" name=""/>
              <p:cNvGraphicFramePr/>
              <p:nvPr/>
            </p:nvGraphicFramePr>
            <p:xfrm>
              <a:off x="228600" y="304920"/>
              <a:ext cx="2997360" cy="2147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" y="304920"/>
                        <a:ext cx="2997360" cy="214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1" name=""/>
              <p:cNvGraphicFramePr/>
              <p:nvPr/>
            </p:nvGraphicFramePr>
            <p:xfrm>
              <a:off x="1992240" y="1614960"/>
              <a:ext cx="1616040" cy="1088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92240" y="1614960"/>
                        <a:ext cx="1616040" cy="108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3" name=""/>
              <p:cNvSpPr/>
              <p:nvPr/>
            </p:nvSpPr>
            <p:spPr>
              <a:xfrm>
                <a:off x="349560" y="390960"/>
                <a:ext cx="898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99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8200" y="770040"/>
                <a:ext cx="1835280" cy="10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3300"/>
                    </a:solidFill>
                    <a:latin typeface="Times New Roman"/>
                  </a:rPr>
                  <a:t>36%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55400" y="1701360"/>
                <a:ext cx="794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  </a:t>
                </a:r>
                <a:r>
                  <a:rPr b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$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105520" y="377280"/>
              <a:ext cx="3595680" cy="2326320"/>
              <a:chOff x="5105520" y="377280"/>
              <a:chExt cx="3595680" cy="2326320"/>
            </a:xfrm>
          </p:grpSpPr>
          <p:graphicFrame>
            <p:nvGraphicFramePr>
              <p:cNvPr id="107" name=""/>
              <p:cNvGraphicFramePr/>
              <p:nvPr/>
            </p:nvGraphicFramePr>
            <p:xfrm>
              <a:off x="5703840" y="377280"/>
              <a:ext cx="2997360" cy="2147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03840" y="377280"/>
                        <a:ext cx="2997360" cy="21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9" name=""/>
              <p:cNvGraphicFramePr/>
              <p:nvPr/>
            </p:nvGraphicFramePr>
            <p:xfrm>
              <a:off x="5105520" y="1614960"/>
              <a:ext cx="1616040" cy="1088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05520" y="1614960"/>
                        <a:ext cx="1616040" cy="108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1" name=""/>
              <p:cNvSpPr/>
              <p:nvPr/>
            </p:nvSpPr>
            <p:spPr>
              <a:xfrm>
                <a:off x="7653600" y="463680"/>
                <a:ext cx="898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99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24120" y="813960"/>
                <a:ext cx="1848960" cy="10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3300"/>
                    </a:solidFill>
                    <a:latin typeface="Times New Roman"/>
                  </a:rPr>
                  <a:t>30%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68680" y="1774080"/>
                <a:ext cx="794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  </a:t>
                </a:r>
                <a:r>
                  <a:rPr b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$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04920" y="3507840"/>
              <a:ext cx="3303360" cy="2511360"/>
              <a:chOff x="304920" y="3507840"/>
              <a:chExt cx="3303360" cy="251136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304920" y="3871440"/>
              <a:ext cx="2997000" cy="2147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920" y="3871440"/>
                        <a:ext cx="2997000" cy="21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" name=""/>
              <p:cNvGraphicFramePr/>
              <p:nvPr/>
            </p:nvGraphicFramePr>
            <p:xfrm>
              <a:off x="1992240" y="3507840"/>
              <a:ext cx="1616040" cy="1088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92240" y="3507840"/>
                        <a:ext cx="1616040" cy="108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" name=""/>
              <p:cNvSpPr/>
              <p:nvPr/>
            </p:nvSpPr>
            <p:spPr>
              <a:xfrm>
                <a:off x="425520" y="3958200"/>
                <a:ext cx="898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0880" y="4672440"/>
                <a:ext cx="295236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96%-72%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03120" y="3797280"/>
                <a:ext cx="1416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рубли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181480" y="3507840"/>
              <a:ext cx="3592800" cy="2505240"/>
              <a:chOff x="5181480" y="3507840"/>
              <a:chExt cx="3592800" cy="2505240"/>
            </a:xfrm>
          </p:grpSpPr>
          <p:graphicFrame>
            <p:nvGraphicFramePr>
              <p:cNvPr id="123" name=""/>
              <p:cNvGraphicFramePr/>
              <p:nvPr/>
            </p:nvGraphicFramePr>
            <p:xfrm>
              <a:off x="5791320" y="3973320"/>
              <a:ext cx="2982960" cy="2039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24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791320" y="3973320"/>
                        <a:ext cx="2982960" cy="203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5" name=""/>
              <p:cNvGraphicFramePr/>
              <p:nvPr/>
            </p:nvGraphicFramePr>
            <p:xfrm>
              <a:off x="5181480" y="3507840"/>
              <a:ext cx="1613160" cy="10314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26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181480" y="3507840"/>
                        <a:ext cx="1613160" cy="1031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"/>
              <p:cNvSpPr/>
              <p:nvPr/>
            </p:nvSpPr>
            <p:spPr>
              <a:xfrm>
                <a:off x="7696080" y="3952080"/>
                <a:ext cx="1011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2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43600" y="4637520"/>
                <a:ext cx="2743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3300"/>
                    </a:solidFill>
                    <a:latin typeface="Times New Roman"/>
                  </a:rPr>
                  <a:t>70%-48%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10280" y="3647160"/>
                <a:ext cx="1647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рубли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B48-5EE8-4C0A-9EDC-79A6736624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264960"/>
            <a:ext cx="8915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2c"/>
                </a:solidFill>
                <a:latin typeface="Arial"/>
              </a:rPr>
              <a:t>УСЛОВИЯ ОБЕСПЕЧЕНИЯ ЗАЙ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590920"/>
            <a:ext cx="8915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2c"/>
                </a:solidFill>
                <a:latin typeface="Arial"/>
              </a:rPr>
              <a:t>ГОДОВЫЕ ПРОЦЕНТНЫЕ СТ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1004760"/>
            <a:ext cx="8916120" cy="1372320"/>
            <a:chOff x="228600" y="1004760"/>
            <a:chExt cx="8916120" cy="1372320"/>
          </a:xfrm>
        </p:grpSpPr>
        <p:sp>
          <p:nvSpPr>
            <p:cNvPr id="133" name=""/>
            <p:cNvSpPr/>
            <p:nvPr/>
          </p:nvSpPr>
          <p:spPr>
            <a:xfrm>
              <a:off x="548640" y="1004760"/>
              <a:ext cx="85960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заимное поручительств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ерсональные поручители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изические и юридические лиц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зало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228600" y="1981080"/>
            <a:ext cx="290520" cy="266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981080"/>
                      <a:ext cx="29052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228600" y="1143000"/>
            <a:ext cx="290520" cy="266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1143000"/>
                      <a:ext cx="29052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228600" y="1600200"/>
            <a:ext cx="290520" cy="266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1600200"/>
                      <a:ext cx="29052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"/>
          <p:cNvGrpSpPr/>
          <p:nvPr/>
        </p:nvGrpSpPr>
        <p:grpSpPr>
          <a:xfrm>
            <a:off x="457200" y="3429000"/>
            <a:ext cx="7857720" cy="2548080"/>
            <a:chOff x="457200" y="3429000"/>
            <a:chExt cx="7857720" cy="2548080"/>
          </a:xfrm>
        </p:grpSpPr>
        <p:grpSp>
          <p:nvGrpSpPr>
            <p:cNvPr id="141" name=""/>
            <p:cNvGrpSpPr/>
            <p:nvPr/>
          </p:nvGrpSpPr>
          <p:grpSpPr>
            <a:xfrm>
              <a:off x="457200" y="4946760"/>
              <a:ext cx="4582800" cy="1030320"/>
              <a:chOff x="457200" y="4946760"/>
              <a:chExt cx="4582800" cy="1030320"/>
            </a:xfrm>
          </p:grpSpPr>
          <p:sp>
            <p:nvSpPr>
              <p:cNvPr id="142" name=""/>
              <p:cNvSpPr/>
              <p:nvPr/>
            </p:nvSpPr>
            <p:spPr>
              <a:xfrm>
                <a:off x="510840" y="4946760"/>
                <a:ext cx="1710720" cy="10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Arial"/>
                  </a:rPr>
                  <a:t>70%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5913360"/>
                <a:ext cx="4330800" cy="637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27840" y="5556240"/>
                <a:ext cx="1712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ервый зае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111040" y="4260960"/>
              <a:ext cx="4353120" cy="1030320"/>
              <a:chOff x="2111040" y="4260960"/>
              <a:chExt cx="4353120" cy="1030320"/>
            </a:xfrm>
          </p:grpSpPr>
          <p:sp>
            <p:nvSpPr>
              <p:cNvPr id="146" name=""/>
              <p:cNvSpPr/>
              <p:nvPr/>
            </p:nvSpPr>
            <p:spPr>
              <a:xfrm>
                <a:off x="2111040" y="4260960"/>
                <a:ext cx="1710720" cy="10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Arial"/>
                  </a:rPr>
                  <a:t>60%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33720" y="5227560"/>
                <a:ext cx="4330440" cy="637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75040" y="4870440"/>
                <a:ext cx="1649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торой зае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809880" y="3429000"/>
              <a:ext cx="4505040" cy="1176480"/>
              <a:chOff x="3809880" y="3429000"/>
              <a:chExt cx="4505040" cy="1176480"/>
            </a:xfrm>
          </p:grpSpPr>
          <p:sp>
            <p:nvSpPr>
              <p:cNvPr id="150" name=""/>
              <p:cNvSpPr/>
              <p:nvPr/>
            </p:nvSpPr>
            <p:spPr>
              <a:xfrm>
                <a:off x="4092120" y="3429000"/>
                <a:ext cx="18630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Arial"/>
                  </a:rPr>
                  <a:t>48%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09880" y="4541760"/>
                <a:ext cx="4330800" cy="637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12400" y="4184640"/>
                <a:ext cx="2702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третий заем и далее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9D9-8D76-43E3-9A20-AFC0926EA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557360"/>
            <a:ext cx="807696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фициально  зарегистрированные предприниматели либо юридические л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ладеющие действующим бизнесом либо стартовым капитал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ющие опыт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ющиеся  в средствах на пополнение оборотного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являющиеся должниками по платежам в бюджет и по кредитам в бан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64960"/>
            <a:ext cx="89154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562c"/>
                </a:solidFill>
                <a:latin typeface="Arial"/>
              </a:rPr>
              <a:t>Наши клиенты - это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212-BFCD-4896-807D-39105F3E2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724040" y="2338560"/>
            <a:ext cx="6597360" cy="3241440"/>
            <a:chOff x="1724040" y="2338560"/>
            <a:chExt cx="6597360" cy="3241440"/>
          </a:xfrm>
        </p:grpSpPr>
        <p:sp>
          <p:nvSpPr>
            <p:cNvPr id="156" name=""/>
            <p:cNvSpPr/>
            <p:nvPr/>
          </p:nvSpPr>
          <p:spPr>
            <a:xfrm>
              <a:off x="5017680" y="2360520"/>
              <a:ext cx="285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ПТОВАЯ ТОРГОВЛЯ -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31000" y="3351240"/>
              <a:ext cx="239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ИЗВОДСТВО - 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9920" y="3960720"/>
              <a:ext cx="191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АНСПОРТ - 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724040" y="2338560"/>
              <a:ext cx="5359320" cy="3241440"/>
              <a:chOff x="1724040" y="2338560"/>
              <a:chExt cx="5359320" cy="3241440"/>
            </a:xfrm>
          </p:grpSpPr>
          <p:graphicFrame>
            <p:nvGraphicFramePr>
              <p:cNvPr id="160" name=""/>
              <p:cNvGraphicFramePr/>
              <p:nvPr/>
            </p:nvGraphicFramePr>
            <p:xfrm>
              <a:off x="1724040" y="2338560"/>
              <a:ext cx="4470480" cy="3241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24040" y="2338560"/>
                        <a:ext cx="4470480" cy="324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2" name=""/>
              <p:cNvSpPr/>
              <p:nvPr/>
            </p:nvSpPr>
            <p:spPr>
              <a:xfrm>
                <a:off x="5624280" y="2894040"/>
                <a:ext cx="1459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УСЛУГИ - 7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57040" y="3938760"/>
                <a:ext cx="297396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РОЗНИЧНАЯ ТОРГОВЛ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84%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152280" y="264960"/>
            <a:ext cx="891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62c"/>
                </a:solidFill>
                <a:latin typeface="Arial"/>
              </a:rPr>
              <a:t>В ЭТОЙ СФЕРЕ РАБОТАЮТ НАШИ КЛИЕН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94A-C0ED-4054-9576-24AA7178B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880" y="2757600"/>
            <a:ext cx="3972240" cy="655560"/>
            <a:chOff x="2880" y="2757600"/>
            <a:chExt cx="3972240" cy="655560"/>
          </a:xfrm>
        </p:grpSpPr>
        <p:graphicFrame>
          <p:nvGraphicFramePr>
            <p:cNvPr id="166" name=""/>
            <p:cNvGraphicFramePr/>
            <p:nvPr/>
          </p:nvGraphicFramePr>
          <p:xfrm>
            <a:off x="3403440" y="2925720"/>
            <a:ext cx="571680" cy="4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03440" y="2925720"/>
                      <a:ext cx="5716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2880" y="2757600"/>
              <a:ext cx="3508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62c"/>
                  </a:solidFill>
                  <a:latin typeface="Arial"/>
                </a:rPr>
                <a:t>Великий Новгор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029280" y="1843200"/>
            <a:ext cx="2045160" cy="519120"/>
            <a:chOff x="6029280" y="1843200"/>
            <a:chExt cx="2045160" cy="519120"/>
          </a:xfrm>
        </p:grpSpPr>
        <p:graphicFrame>
          <p:nvGraphicFramePr>
            <p:cNvPr id="170" name=""/>
            <p:cNvGraphicFramePr/>
            <p:nvPr/>
          </p:nvGraphicFramePr>
          <p:xfrm>
            <a:off x="6029280" y="1892160"/>
            <a:ext cx="476280" cy="40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29280" y="1892160"/>
                      <a:ext cx="47628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6558840" y="1843200"/>
              <a:ext cx="1515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62c"/>
                  </a:solidFill>
                  <a:latin typeface="Arial"/>
                </a:rPr>
                <a:t>Волхо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824760" y="1293840"/>
            <a:ext cx="7667640" cy="4649040"/>
            <a:chOff x="824760" y="1293840"/>
            <a:chExt cx="7667640" cy="4649040"/>
          </a:xfrm>
        </p:grpSpPr>
        <p:grpSp>
          <p:nvGrpSpPr>
            <p:cNvPr id="174" name=""/>
            <p:cNvGrpSpPr/>
            <p:nvPr/>
          </p:nvGrpSpPr>
          <p:grpSpPr>
            <a:xfrm>
              <a:off x="4637880" y="5139720"/>
              <a:ext cx="2902320" cy="803160"/>
              <a:chOff x="4637880" y="5139720"/>
              <a:chExt cx="2902320" cy="803160"/>
            </a:xfrm>
          </p:grpSpPr>
          <p:graphicFrame>
            <p:nvGraphicFramePr>
              <p:cNvPr id="175" name=""/>
              <p:cNvGraphicFramePr/>
              <p:nvPr/>
            </p:nvGraphicFramePr>
            <p:xfrm>
              <a:off x="4764240" y="5594400"/>
              <a:ext cx="479160" cy="348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764240" y="5594400"/>
                        <a:ext cx="479160" cy="34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4637880" y="5139720"/>
                <a:ext cx="29023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562c"/>
                    </a:solidFill>
                    <a:latin typeface="Arial"/>
                  </a:rPr>
                  <a:t>Старая Русс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24760" y="1293840"/>
              <a:ext cx="7667640" cy="4533120"/>
              <a:chOff x="824760" y="1293840"/>
              <a:chExt cx="7667640" cy="4533120"/>
            </a:xfrm>
          </p:grpSpPr>
          <p:graphicFrame>
            <p:nvGraphicFramePr>
              <p:cNvPr id="179" name=""/>
              <p:cNvGraphicFramePr/>
              <p:nvPr/>
            </p:nvGraphicFramePr>
            <p:xfrm>
              <a:off x="5626080" y="2199960"/>
              <a:ext cx="299880" cy="249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8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626080" y="2199960"/>
                        <a:ext cx="2998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1" name=""/>
              <p:cNvGraphicFramePr/>
              <p:nvPr/>
            </p:nvGraphicFramePr>
            <p:xfrm>
              <a:off x="7029360" y="1491840"/>
              <a:ext cx="300240" cy="249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029360" y="1491840"/>
                        <a:ext cx="30024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3" name=""/>
              <p:cNvGraphicFramePr/>
              <p:nvPr/>
            </p:nvGraphicFramePr>
            <p:xfrm>
              <a:off x="4222800" y="2655000"/>
              <a:ext cx="301680" cy="249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222800" y="2655000"/>
                        <a:ext cx="3016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5" name=""/>
              <p:cNvGraphicFramePr/>
              <p:nvPr/>
            </p:nvGraphicFramePr>
            <p:xfrm>
              <a:off x="4894200" y="2400840"/>
              <a:ext cx="300240" cy="2512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94200" y="2400840"/>
                        <a:ext cx="300240" cy="251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7" name=""/>
              <p:cNvGraphicFramePr/>
              <p:nvPr/>
            </p:nvGraphicFramePr>
            <p:xfrm>
              <a:off x="3003480" y="3209760"/>
              <a:ext cx="301680" cy="249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8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003480" y="3209760"/>
                        <a:ext cx="3016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9" name=""/>
              <p:cNvGraphicFramePr/>
              <p:nvPr/>
            </p:nvGraphicFramePr>
            <p:xfrm>
              <a:off x="2577960" y="2147760"/>
              <a:ext cx="300240" cy="2498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90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577960" y="2147760"/>
                        <a:ext cx="30024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1" name=""/>
              <p:cNvGraphicFramePr/>
              <p:nvPr/>
            </p:nvGraphicFramePr>
            <p:xfrm>
              <a:off x="4284720" y="3209760"/>
              <a:ext cx="299880" cy="2498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284720" y="3209760"/>
                        <a:ext cx="2998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3" name=""/>
              <p:cNvGraphicFramePr/>
              <p:nvPr/>
            </p:nvGraphicFramePr>
            <p:xfrm>
              <a:off x="6235560" y="3665160"/>
              <a:ext cx="300240" cy="2498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94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6235560" y="3665160"/>
                        <a:ext cx="30024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5" name=""/>
              <p:cNvGraphicFramePr/>
              <p:nvPr/>
            </p:nvGraphicFramePr>
            <p:xfrm>
              <a:off x="5383080" y="3462480"/>
              <a:ext cx="300240" cy="2498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96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383080" y="3462480"/>
                        <a:ext cx="30024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" name=""/>
              <p:cNvGraphicFramePr/>
              <p:nvPr/>
            </p:nvGraphicFramePr>
            <p:xfrm>
              <a:off x="4100400" y="5232600"/>
              <a:ext cx="303480" cy="2498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98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100400" y="5232600"/>
                        <a:ext cx="3034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9" name=""/>
              <p:cNvGraphicFramePr/>
              <p:nvPr/>
            </p:nvGraphicFramePr>
            <p:xfrm>
              <a:off x="7059600" y="5551200"/>
              <a:ext cx="299880" cy="24984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7059600" y="5551200"/>
                        <a:ext cx="2998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1" name=""/>
              <p:cNvGraphicFramePr/>
              <p:nvPr/>
            </p:nvGraphicFramePr>
            <p:xfrm>
              <a:off x="3187800" y="5485680"/>
              <a:ext cx="299880" cy="2498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202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3187800" y="5485680"/>
                        <a:ext cx="2998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3" name=""/>
              <p:cNvGraphicFramePr/>
              <p:nvPr/>
            </p:nvGraphicFramePr>
            <p:xfrm>
              <a:off x="1906560" y="4322520"/>
              <a:ext cx="300240" cy="249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204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906560" y="4322520"/>
                        <a:ext cx="30024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5" name=""/>
              <p:cNvGraphicFramePr/>
              <p:nvPr/>
            </p:nvGraphicFramePr>
            <p:xfrm>
              <a:off x="2028960" y="3715560"/>
              <a:ext cx="299880" cy="249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206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2028960" y="3715560"/>
                        <a:ext cx="29988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7" name=""/>
              <p:cNvGraphicFramePr/>
              <p:nvPr/>
            </p:nvGraphicFramePr>
            <p:xfrm>
              <a:off x="2516040" y="4777560"/>
              <a:ext cx="300240" cy="24984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208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2516040" y="4777560"/>
                        <a:ext cx="300240" cy="24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9" name=""/>
              <p:cNvSpPr/>
              <p:nvPr/>
            </p:nvSpPr>
            <p:spPr>
              <a:xfrm>
                <a:off x="3718800" y="3458520"/>
                <a:ext cx="77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Руск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79440" y="2343600"/>
                <a:ext cx="975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ириш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31520" y="2080800"/>
                <a:ext cx="939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Чудов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07480" y="2801160"/>
                <a:ext cx="1168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Чечулин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83760" y="1884240"/>
                <a:ext cx="1215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Ермолин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8200" y="1293840"/>
                <a:ext cx="1395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Нов. Ладог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54280" y="3524400"/>
                <a:ext cx="805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Борк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73080" y="3130560"/>
                <a:ext cx="1404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летар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63440" y="3786480"/>
                <a:ext cx="1148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Окулов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0000" y="3524400"/>
                <a:ext cx="1006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Сольц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4760" y="4114800"/>
                <a:ext cx="1085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едведь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10200" y="4770720"/>
                <a:ext cx="878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Шимс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90920" y="4835160"/>
                <a:ext cx="1157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Алексин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71960" y="5491080"/>
                <a:ext cx="805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Воло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77840" y="5361120"/>
                <a:ext cx="1114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Парфин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152280" y="264960"/>
            <a:ext cx="89154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562c"/>
                </a:solidFill>
                <a:latin typeface="Arial"/>
              </a:rPr>
              <a:t>НАШИ КЛИЕНТЫ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5CE-02F7-4472-9191-0FD3D79AE9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9:39:59Z</dcterms:created>
  <dc:creator>Reanimator 99 CD</dc:creator>
  <dc:description/>
  <dc:language>en-US</dc:language>
  <cp:lastModifiedBy>Tacis SMERUS Project</cp:lastModifiedBy>
  <cp:lastPrinted>2000-10-18T06:48:40Z</cp:lastPrinted>
  <dcterms:modified xsi:type="dcterms:W3CDTF">2002-03-12T10:09:50Z</dcterms:modified>
  <cp:revision>38</cp:revision>
  <dc:subject/>
  <dc:title>Презентация PowerPoint</dc:title>
</cp:coreProperties>
</file>