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14E-2D50-4B83-AF7D-DD5F759C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299-4341-4ECE-8A0F-6E09D07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956-69AF-4249-9D4C-0E1E7376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8E7-4973-4C63-94C3-8E31D52B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F0D-4BC6-4040-B3AA-B0AE4F1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840-EE59-4F00-931E-7CD4CF3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04C-9C97-413B-864F-6D1F9D8B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EBD-EACA-4217-BE90-B05D704C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304-E703-4468-81E5-8239D3A0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BD7-BEDF-4713-8CFD-6C9B6DB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95D-E76E-492D-98A0-84C4E59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3F6-BAFF-4832-9311-E930257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32EB-F4F4-4D33-AD65-A5E18991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9960" y="246240"/>
          <a:ext cx="8510760" cy="64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46240"/>
                    <a:ext cx="8510760" cy="64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04920" y="304920"/>
          <a:ext cx="853416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5867280"/>
            <a:ext cx="8305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мечание. Данные пересчитаны, чтобы отразить совокупность ответов по категориям «очень редко»; «редко» и объединить «часто» и «всегда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30040" y="12600"/>
          <a:ext cx="8726760" cy="600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2600"/>
                    <a:ext cx="872676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23840" y="5972040"/>
            <a:ext cx="902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мечание. Данные пересчитаны, чтобы отразить совокупность ответов по категориям «плохо»; «скорее плохо, чем хорошо»; «хорошо» и «скорее хорошо, чем плохо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.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-7632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30040" y="-76320"/>
          <a:ext cx="865044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-76320"/>
                    <a:ext cx="865044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8600" y="5972040"/>
            <a:ext cx="8763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мечание. Данные пересчитаны, чтобы отразить совокупность ответов по категориям «очень редко»; «редко» и объединить «часто» и «всегда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17600" y="0"/>
          <a:ext cx="8726400" cy="60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0"/>
                    <a:ext cx="8726400" cy="60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2160" y="5972040"/>
            <a:ext cx="9051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 Данные пересчитаны, чтобы отразить совокупность ответов по категориям «плохо»; «скорее плохо, чем хорошо»; «хорошо» и «скорее хорошо, чем плохо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30040" y="0"/>
          <a:ext cx="8726760" cy="60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0"/>
                    <a:ext cx="8726760" cy="60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6320" y="5867280"/>
            <a:ext cx="9067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 Данные пересчитаны, чтобы отразить совокупность ответов по категориям «плохо»; «скорее плохо, чем хорошо»; «хорошо» и «скорее хорошо, чем плохо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96880" y="538200"/>
          <a:ext cx="8039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38200"/>
                    <a:ext cx="8039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93560" y="0"/>
          <a:ext cx="865044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0"/>
                    <a:ext cx="865044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" y="6095880"/>
            <a:ext cx="8686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 Данные пересчитаны, чтобы отразить совокупность ответов по категориям «очень редко»; «редко» и объединить «часто» и «всегда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0040" y="-76320"/>
          <a:ext cx="8726760" cy="600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-76320"/>
                    <a:ext cx="872676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80880" y="586728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 Данные пересчитаны, чтобы отразить совокупность ответов по категориям «плохо»; «скорее плохо, чем хорошо»; «хорошо» и «скорее хорошо, чем плохо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083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80880" y="6170760"/>
            <a:ext cx="84582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 Данные пересчитаны, чтобы отразить совокупность ответов тех, кто не имел выбора и был вынужден сотрудничать с фирмами на рынке, а также исключить из обобщенных данных тех респондентов, которые не ответили на вопро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9960" y="322200"/>
          <a:ext cx="8418600" cy="61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22200"/>
                    <a:ext cx="84186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93560" y="0"/>
          <a:ext cx="865044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0"/>
                    <a:ext cx="865044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0" y="609588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Данные пересчитаны, чтобы отразить совокупность ответов по категориям «очень часто»; «иногда» и «очень редко», а также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68580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Если у Вашего предприятия были в 2001 году проблемы с каким-либо государственным/административным органом по поводу указанных ниже процедур, как Вы решали эти проблемы? Были ли они в итоге решен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%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.документ в формат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88920"/>
          <a:ext cx="8834400" cy="66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8920"/>
                    <a:ext cx="8834400" cy="66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7800" y="307800"/>
          <a:ext cx="835668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307800"/>
                    <a:ext cx="83566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72000" y="4952880"/>
          <a:ext cx="3886200" cy="1295280"/>
        </p:xfrm>
        <a:graphic>
          <a:graphicData uri="http://schemas.openxmlformats.org/drawingml/2006/table">
            <a:tbl>
              <a:tblPr/>
              <a:tblGrid>
                <a:gridCol w="1582920"/>
                <a:gridCol w="2303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помог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520" y="5486400"/>
            <a:ext cx="32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связи с незначительным количеством ответов «очень помогают», результаты по этой категории представлены в отдельной таблиц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61880" y="338040"/>
          <a:ext cx="835344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38040"/>
                    <a:ext cx="83534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172200" y="35812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lternative table for Q32b…less cluttered, simple 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30040" y="0"/>
          <a:ext cx="87267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0"/>
                    <a:ext cx="87267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1360" y="1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572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4. Если у Вашего предприятия были в 2001 году проблемы с каким-либо государственным/административным органов по поводу указанных ниже процедур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ы решали эти проблемы? Были ли они в итоге решены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51200" y="2057400"/>
          <a:ext cx="5241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2057400"/>
                    <a:ext cx="5241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4572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4. Если у Вашего предприятия были в 2001 году проблемы с каким-либо государственным/административным органов по поводу указанных ниже процедур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ы решали эти проблемы? Были ли они в итоге решены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11400" y="1981080"/>
          <a:ext cx="49212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1981080"/>
                    <a:ext cx="4921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4572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4. Если у Вашего предприятия были в 2001 году проблемы с каким-либо государственным/административным органов по поводу указанных ниже процедур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ы решали эти проблемы? Были ли они в итоге решены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47880" y="1981080"/>
          <a:ext cx="5446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981080"/>
                    <a:ext cx="544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4572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4. Если у Вашего предприятия были в 2001 году проблемы с каким-либо государственным/административным органов по поводу указанных ниже процедур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ы решали эти проблемы? Были ли они в итоге решены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35000" y="1981080"/>
          <a:ext cx="52722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1981080"/>
                    <a:ext cx="5272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4572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4. Если у Вашего предприятия были в 2001 году проблемы с каким-либо государственным/административным органов по поводу указанных ниже процедур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ы решали эти проблемы? Были ли они в итоге решены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3280" y="1981080"/>
          <a:ext cx="5797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3280" y="1981080"/>
                    <a:ext cx="579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4572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4. Если у Вашего предприятия были в 2001 году проблемы с каким-либо государственным/административным органов по поводу указанных ниже процедур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ы решали эти проблемы? Были ли они в итоге решены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304920"/>
          <a:ext cx="8381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381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04920" y="228600"/>
          <a:ext cx="8572320" cy="63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7232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14200" y="276120"/>
          <a:ext cx="8650440" cy="62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76120"/>
                    <a:ext cx="865044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0"/>
          <a:ext cx="8610480" cy="60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10480" cy="60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2280" y="6019920"/>
            <a:ext cx="899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Данные пересчитаны, чтобы отразить совокупность ответов по категориям «плохо»; «скорее плохо, чем хорошо»; «хорошо»; «скорее хорошо, чем плохо» и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28600"/>
          <a:ext cx="86868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04920" y="5943600"/>
            <a:ext cx="86104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мечание. Данные пересчитаны, чтобы отразить совокупность ответов по категориям «незначительные»; «большие»; «очень тяжелые проблемы» и исключить из обобщенных данных тех респондентов, которые либо не ответили на вопрос, либо посчитали, что заданный вопрос не имеет отношения к их практической деятельности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7:07:49Z</dcterms:created>
  <dc:creator>TJ</dc:creator>
  <dc:description/>
  <dc:language>en-US</dc:language>
  <cp:lastModifiedBy>Tatyana Ponomareva</cp:lastModifiedBy>
  <dcterms:modified xsi:type="dcterms:W3CDTF">2003-01-24T18:00:51Z</dcterms:modified>
  <cp:revision>196</cp:revision>
  <dc:subject/>
  <dc:title>PowerPoint Presentation</dc:title>
</cp:coreProperties>
</file>