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F8D0-FC17-443E-8349-9C2CFD022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06E90-67ED-45F5-8DC8-D8A4EE7A40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B9F04-1F21-4A95-BFCB-B34992F1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FF29D-F32D-4803-BA35-78BC0E6F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FC68F-36A9-4CEE-BCB9-4F467D7667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5CD28-B717-4279-83CA-F631FF0D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01DBB-3927-437B-B300-EE4D46ED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65C8F-42AF-4CD6-A8AA-29363139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2343B-437E-4879-9B35-FA53B0E9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9C7FD-7136-4C83-856A-BDD654AD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08D28-B72C-4B4D-A69F-E6D6AA61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2788D-DA1C-48B8-AA4E-57033116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EDE98-073D-417D-B2E8-1DADFB30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77777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77777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777777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777777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777777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080" y="622296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Проект Тасис СМЕРУС 98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593880" y="62229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EED2-DC1B-4643-8A78-194096300D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40960" y="6235560"/>
            <a:ext cx="3470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Конференция “Расширение доступа малого бизнеса </a:t>
            </a:r>
            <a:endParaRPr b="0" lang="en-US" sz="1000" spc="-1" strike="noStrike">
              <a:solidFill>
                <a:srgbClr val="777777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к финансированию в России”,  Москва, 1 марта 2002 г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66"/>
                </a:solidFill>
                <a:uFillTx/>
                <a:latin typeface="Verdana"/>
              </a:rPr>
              <a:t>Фонд малого бизнеса России(RSBF)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49" name="new%20map_2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534520" cy="4953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70BF2-906A-4543-9E0B-B842F714A01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514520" y="1397160"/>
          <a:ext cx="6087960" cy="398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397160"/>
                    <a:ext cx="60879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525680" y="1395360"/>
          <a:ext cx="6097320" cy="406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5680" y="1395360"/>
                    <a:ext cx="60973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Частота распределения займов по размеру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80880" y="533520"/>
          <a:ext cx="8496360" cy="5562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533520"/>
                    <a:ext cx="849636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952880" y="2971800"/>
            <a:ext cx="3353040" cy="52056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5% ниже $5,000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CF0DE-4012-47F6-A1BF-B15FDAB91D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Verdana"/>
              </a:rPr>
              <a:t>Распределение просроченного портфеля (объем) по секторам (производство, торговля, услуги)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Verdana"/>
              </a:rPr>
              <a:t>Микро- и малые займы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8600" y="1609560"/>
          <a:ext cx="8532720" cy="471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9560"/>
                    <a:ext cx="853272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214E7-CCDD-447E-99B6-DD9BBEDAB1C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0"/>
          <a:ext cx="9220320" cy="61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66"/>
                </a:solidFill>
                <a:latin typeface="Verdana"/>
              </a:rPr>
              <a:t>Распределение займов по юридическому статусу клиента, ЕБРР - </a:t>
            </a:r>
            <a:r>
              <a:rPr b="0" lang="ru-RU" sz="22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66"/>
                </a:solidFill>
                <a:latin typeface="Verdana"/>
              </a:rPr>
              <a:t>RSBF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8600" y="1143000"/>
          <a:ext cx="8569440" cy="4952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143000"/>
                    <a:ext cx="85694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3C6F4-C377-4B41-BC9A-2FE9873BCA5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12600" y="1104840"/>
          <a:ext cx="9144000" cy="5067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00" y="1104840"/>
                    <a:ext cx="914400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8305920" y="2895480"/>
            <a:ext cx="685800" cy="246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77777"/>
                </a:solidFill>
                <a:latin typeface="Arial"/>
              </a:rPr>
              <a:t>Мужч.</a:t>
            </a:r>
            <a:endParaRPr b="0" lang="en-US" sz="10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92960" y="3301920"/>
            <a:ext cx="68580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777777"/>
                </a:solidFill>
                <a:latin typeface="Times New Roman"/>
              </a:rPr>
              <a:t>Женщ</a:t>
            </a:r>
            <a:r>
              <a:rPr b="1" lang="ru-RU" sz="2400" spc="-1" strike="noStrike">
                <a:solidFill>
                  <a:srgbClr val="77777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66"/>
                </a:solidFill>
                <a:latin typeface="Verdana"/>
              </a:rPr>
              <a:t>Сравнительная характеристика размера займов, выдаваемых мужчинам и женщинам, Программа микрозаймов</a:t>
            </a:r>
            <a:endParaRPr b="0" lang="en-US" sz="19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8DEED-1C41-4E21-BDBD-E392336E1738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66"/>
                </a:solidFill>
                <a:uFillTx/>
                <a:latin typeface="Verdana"/>
              </a:rPr>
              <a:t>Микрозаймы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55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66"/>
                </a:solidFill>
                <a:latin typeface="Verdana"/>
              </a:rPr>
              <a:t>До 30 000 долларов США, также в рублевом эквиваленте</a:t>
            </a:r>
            <a:endParaRPr b="0" lang="en-US" sz="22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66"/>
                </a:solidFill>
                <a:latin typeface="Verdana"/>
              </a:rPr>
              <a:t>Срок - до 3-х лет</a:t>
            </a:r>
            <a:endParaRPr b="0" lang="en-US" sz="22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66"/>
                </a:solidFill>
                <a:latin typeface="Verdana"/>
              </a:rPr>
              <a:t>Клиенты - собственники или юридические лица с численностью штата до 30 человек</a:t>
            </a:r>
            <a:endParaRPr b="0" lang="en-US" sz="2200" spc="-1" strike="noStrike">
              <a:solidFill>
                <a:srgbClr val="777777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Verdana"/>
              </a:rPr>
              <a:t>предприятия, работающие в сфере торговли, услуг и производства</a:t>
            </a:r>
            <a:endParaRPr b="0" lang="en-US" sz="20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27C5E-46F1-40C9-A28D-99DD0CA6CDA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66"/>
                </a:solidFill>
                <a:uFillTx/>
                <a:latin typeface="Verdana"/>
              </a:rPr>
              <a:t>Малые займы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ts val="3498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Verdana"/>
              </a:rPr>
              <a:t>От 20 000 до 155 000 долларов США, также в рублевом эквиваленте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-343080" algn="just">
              <a:lnSpc>
                <a:spcPts val="3498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Verdana"/>
              </a:rPr>
              <a:t>Срок - до 3-х лет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-343080" algn="just">
              <a:lnSpc>
                <a:spcPts val="3498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Verdana"/>
              </a:rPr>
              <a:t>Целевая группа – собственники или юридические лица с численностью штата до 100 человек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lvl="1" marL="743040" indent="-285840" algn="just">
              <a:lnSpc>
                <a:spcPts val="3498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Производство и услуги</a:t>
            </a:r>
            <a:r>
              <a:rPr b="1" lang="ru-RU" sz="1600" spc="-1" strike="noStrike">
                <a:solidFill>
                  <a:srgbClr val="ffff66"/>
                </a:solidFill>
                <a:latin typeface="Verdana"/>
              </a:rPr>
              <a:t> - </a:t>
            </a: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по приобретению основных активов и рабочего капитала;</a:t>
            </a:r>
            <a:endParaRPr b="0" lang="en-US" sz="1800" spc="-1" strike="noStrike">
              <a:solidFill>
                <a:srgbClr val="777777"/>
              </a:solidFill>
              <a:latin typeface="Times New Roman"/>
            </a:endParaRPr>
          </a:p>
          <a:p>
            <a:pPr lvl="1" marL="743040" indent="-285840" algn="just">
              <a:lnSpc>
                <a:spcPts val="3498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торговля -  по приобретению основных активов</a:t>
            </a:r>
            <a:endParaRPr b="0" lang="en-US" sz="1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20C0C-9051-4C39-A565-55F1317D8C6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Микро- и малые займы, Программа ЕБРР - RSBF </a:t>
            </a:r>
            <a:br>
              <a:rPr sz="1800"/>
            </a:b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Годовые выплаты займов (число) </a:t>
            </a:r>
            <a:br>
              <a:rPr sz="1800"/>
            </a:b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1994 - 2001 гг.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5400" y="1066680"/>
          <a:ext cx="895320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066680"/>
                    <a:ext cx="89532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" name=""/>
          <p:cNvGrpSpPr/>
          <p:nvPr/>
        </p:nvGrpSpPr>
        <p:grpSpPr>
          <a:xfrm>
            <a:off x="2895480" y="2743200"/>
            <a:ext cx="4648320" cy="2133360"/>
            <a:chOff x="2895480" y="2743200"/>
            <a:chExt cx="4648320" cy="2133360"/>
          </a:xfrm>
        </p:grpSpPr>
        <p:sp>
          <p:nvSpPr>
            <p:cNvPr id="58" name=""/>
            <p:cNvSpPr/>
            <p:nvPr/>
          </p:nvSpPr>
          <p:spPr>
            <a:xfrm>
              <a:off x="2895480" y="2743200"/>
              <a:ext cx="4648320" cy="2133360"/>
            </a:xfrm>
            <a:prstGeom prst="ellipse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44920" y="3276360"/>
              <a:ext cx="159552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ff"/>
                  </a:solidFill>
                  <a:uFillTx/>
                  <a:latin typeface="Times New Roman"/>
                </a:rPr>
                <a:t>&gt; 73 000</a:t>
              </a:r>
              <a:endParaRPr b="0" lang="en-US" sz="28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260E0-5B0F-409E-AB2C-215198BF927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Микро- и малые займы, Программа ЕБРР - RSBF </a:t>
            </a:r>
            <a:br>
              <a:rPr sz="1800"/>
            </a:b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Ежегодные объемы выплат (в долларовом эквиваленте) Итого за период  1994 - 2001 гг.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280" y="1143000"/>
          <a:ext cx="88585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88585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" name=""/>
          <p:cNvGrpSpPr/>
          <p:nvPr/>
        </p:nvGrpSpPr>
        <p:grpSpPr>
          <a:xfrm>
            <a:off x="2666880" y="2743200"/>
            <a:ext cx="4876920" cy="1600200"/>
            <a:chOff x="2666880" y="2743200"/>
            <a:chExt cx="4876920" cy="1600200"/>
          </a:xfrm>
        </p:grpSpPr>
        <p:sp>
          <p:nvSpPr>
            <p:cNvPr id="64" name=""/>
            <p:cNvSpPr/>
            <p:nvPr/>
          </p:nvSpPr>
          <p:spPr>
            <a:xfrm>
              <a:off x="2666880" y="2743200"/>
              <a:ext cx="4876920" cy="1600200"/>
            </a:xfrm>
            <a:prstGeom prst="ellipse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39840" y="3029040"/>
              <a:ext cx="24904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ff"/>
                  </a:solidFill>
                  <a:latin typeface="Times New Roman"/>
                </a:rPr>
                <a:t>&gt; $ </a:t>
              </a:r>
              <a:r>
                <a:rPr b="1" lang="en-GB" sz="2000" spc="-1" strike="noStrike" u="sng">
                  <a:solidFill>
                    <a:srgbClr val="0066ff"/>
                  </a:solidFill>
                  <a:uFillTx/>
                  <a:latin typeface="Times New Roman"/>
                </a:rPr>
                <a:t>740</a:t>
              </a:r>
              <a:r>
                <a:rPr b="1" lang="en-US" sz="2000" spc="-1" strike="noStrike" u="sng">
                  <a:solidFill>
                    <a:srgbClr val="0066ff"/>
                  </a:solidFill>
                  <a:uFillTx/>
                  <a:latin typeface="Times New Roman"/>
                </a:rPr>
                <a:t> млн.</a:t>
              </a:r>
              <a:r>
                <a:rPr b="1" lang="ru-RU" sz="2000" spc="-1" strike="noStrike" u="sng">
                  <a:solidFill>
                    <a:srgbClr val="0066ff"/>
                  </a:solidFill>
                  <a:uFillTx/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66ff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4A11A-EC7D-43CD-A3F6-6BFB72DD165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Микро- и малые займы, Программа ЕБРР - RSBF </a:t>
            </a:r>
            <a:br>
              <a:rPr sz="1800"/>
            </a:b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Помесячные выплаты (число) в 1997 - 2002 гг.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1360" y="1066680"/>
          <a:ext cx="897264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066680"/>
                    <a:ext cx="897264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B7C7F-2C06-4E30-90FA-044FA83D7F7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Микро- и малые займы, Программа ЕБРР - RSBF </a:t>
            </a:r>
            <a:br>
              <a:rPr sz="1800"/>
            </a:b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Помесячные выплаты (объем) </a:t>
            </a:r>
            <a:br>
              <a:rPr sz="1800"/>
            </a:b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1997 - 2002 гг. (в долларах США) 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320" y="1066680"/>
          <a:ext cx="89913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066680"/>
                    <a:ext cx="89913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9F774-6712-4A59-9FAC-12D44FA9C5A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Микро- и малые займы, Программа ЕБРР - RSBF </a:t>
            </a:r>
            <a:br>
              <a:rPr sz="1800"/>
            </a:b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Просроченные займы (число) 1997 - 2002 гг.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280" y="990720"/>
          <a:ext cx="899172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90720"/>
                    <a:ext cx="899172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3EF73-32DF-4E0E-9200-5237F52A033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Микро- и малые займы, Программа ЕБРР - RSBF </a:t>
            </a:r>
            <a:br>
              <a:rPr sz="1800"/>
            </a:b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Просроченные займы (объем)</a:t>
            </a:r>
            <a:br>
              <a:rPr sz="1800"/>
            </a:b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1997 - 2002 гг. (в долларах США)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4480" y="990720"/>
          <a:ext cx="893412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990720"/>
                    <a:ext cx="893412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56279-2756-451D-940A-7C9A4FBE023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08:21:20Z</dcterms:created>
  <dc:creator>Tacis SMERUS Project</dc:creator>
  <dc:description/>
  <dc:language>en-US</dc:language>
  <cp:lastModifiedBy>Tacis SMERUS Project</cp:lastModifiedBy>
  <cp:lastPrinted>2002-03-06T07:23:59Z</cp:lastPrinted>
  <dcterms:modified xsi:type="dcterms:W3CDTF">2002-03-12T08:40:48Z</dcterms:modified>
  <cp:revision>4</cp:revision>
  <dc:subject/>
  <dc:title>No Slide Title</dc:title>
</cp:coreProperties>
</file>